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media/arrow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C30-0E68-453E-91C9-7066ED2D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2C3-B74B-4D4B-B2BC-1B963736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C4D-4DF9-45AB-BC71-9939B60C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1DA-865F-411E-AFC8-A9C9BCB3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E35-CD3E-4D89-849B-D38DE66F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05E7-DB5A-49D6-9C4E-C0A731C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C561-C322-4C43-9B7C-FA0ABBD5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9783-4CA4-4EB3-A68D-10DDE13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435-F381-47B9-8956-4C656C32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4BB5-823D-4984-B4C8-6464EC3B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A5BB-3BD9-4769-ABE0-1E26963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9BB-E977-4ED3-AD3B-B5B238B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D7A1-F6CE-4734-B621-50AC169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054-ED46-4430-B01E-DA6EED6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6E5-9D89-4981-A8C8-EDF7340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139-9570-4A2B-9DBF-EC5683CE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D5D8-B0BE-430D-B4A8-B5251F8D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584-759C-4716-AB1E-13175C5D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92E-DD46-43B2-9132-FD0B2E9E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2E5-F46D-4703-8C4D-DFB9F7D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4BD-1F8F-476A-8B93-A95833BE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B94-550E-4E7D-A58F-42E7103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6AF-7488-4C34-8C31-247588DC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9A7-5E4F-4A98-B50A-75D1719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520-AF18-4AF9-9AD7-ADBCF5DEC4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AF1-96FB-44BF-8EEE-AC02E54F3D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lways_in_russia" TargetMode="External"/><Relationship Id="rId2" Type="http://schemas.openxmlformats.org/officeDocument/2006/relationships/hyperlink" Target="http://en.wikipedia.org/wiki/Railways_in_russia" TargetMode="External"/><Relationship Id="rId3" Type="http://schemas.openxmlformats.org/officeDocument/2006/relationships/hyperlink" Target="http://en.wikipedia.org/Russian_Railways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nsport and how the Russian people solved these probl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4400640"/>
            <a:ext cx="4002120" cy="245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1066680"/>
            <a:ext cx="824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- Water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- Seaports In Russi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I- Rail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V- Highways and Road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- Air Transpo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I- Bibliograph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Water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Waterways in Russia allow boats to travel to differe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laces in Russia. For example, there are rivers lik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Volga River, Ob River, and the Lena River. Sea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d oceans that border Russia include the Balti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ea, Sea of Okhotsk, and the Bering Se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0640" y="430020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1333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Kaliningrad-St. Petersburg-Okhotsk- Murmans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Vladivostok-Astrakhan-Petropavlovsk Kamchatsk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 problem with these ports is that they ar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paced far apart from each other. Ships have 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vel another 200 miles to get the most inland par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of Russia, where Kaliningrad is located. Then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pers have the choice to travel another 5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 to the port of St. Petersburg. This consum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ots of time,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uel, and therefore money. However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axes have been cut for foreign  goods coming in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, saving money, and possibly increasin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d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other problem happening in these ports i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at ports have ice or frost at some point of the year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n fact, there is permafrost, soil that stays below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reezing point, or  zero degrees Celsius, fro two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ore years. Permafrost delays mining, an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art of Russia’s economy. Ice in the seaports preve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movement of boats, so  a special purpose boat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 called a icebreaker is used to separate the ic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ussia’s GDP, or Gross Domestic Product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оссийские железные дороги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, or Russian Railway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s mostly state-run. Russian Railways is one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ggest railway companies in the world, with 0.95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lion employees, a monopoly within it. In fact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otal length of the line is 85,000 kilometers( 53,130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), only surpassed by the United States railw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ystem. In 2007, 1.3 billion passengers and 1.3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llion tons of freight went via Russian Railways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 2007 the company owned 19,700 goods a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ssenger locomotives, 24,200 passenger car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carriages) (2007) and 526,900 freight cars (good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agons) (2007). A further 270,000 freight cars 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ussia are privately owned.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ome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roads include the Trans- Siberian Railroad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 Railway, and The Northern Railwa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industrial railways aside from the comm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carrier railways (railways that passenger tra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ollow). Industrial railways are about hal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ength of common carrier railroads as of 2008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RussianRailways.png"/>
          <p:cNvPicPr/>
          <p:nvPr/>
        </p:nvPicPr>
        <p:blipFill>
          <a:blip r:embed="rId2"/>
          <a:stretch/>
        </p:blipFill>
        <p:spPr>
          <a:xfrm>
            <a:off x="5181480" y="1219320"/>
            <a:ext cx="23814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Pipelines in 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oehm, Richard G., Armstrong, David G., Hunkins, Francais P., et all.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Geography:The World and Its People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Columbus, Ohio: Glencoe, McGraw Hill, 200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; List of Railway Lines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23 October 2010. 15 November 2010. &lt;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2"/>
              </a:rPr>
              <a:t>en.wikipedia.org/wiki/Railways_in_russia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.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ussian Railways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5 December 2010. 15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3"/>
              </a:rPr>
              <a:t>http://en.wikipedia.org/Russian_Rai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Rail transport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History of Rail Transport in Russi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CIA: The World Factbook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92960" y="3455280"/>
            <a:ext cx="7566840" cy="24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Rage Italic"/>
              </a:rPr>
              <a:t>Thanks For Watching! </a:t>
            </a:r>
            <a:r>
              <a:rPr b="1" i="1" lang="en-US" sz="88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16T01:05:24Z</dcterms:modified>
  <cp:revision>31</cp:revision>
  <dc:subject/>
  <dc:title> </dc:title>
</cp:coreProperties>
</file>